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32A-5ED3-47BA-AB80-8764D2AE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AC5-E19E-46FB-B70E-EF1B2737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F63-EC7B-47BD-93B4-49D1F659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0C8-F313-4E74-87F4-45B9216C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281-17FD-4F45-B197-D47D3668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AE0-719B-4A1A-8891-66B80E5D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831-FAE2-470C-B478-F9B6E345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CFA-C0DC-4BDB-9019-4ED46750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1C8-5BD3-4BBD-88F0-D83D13ED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86E-9B6C-40C5-AB27-9E8DE1C0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BD1-5949-4621-9CFF-B231948C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0DE-3042-42DF-B46E-768E1BDF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FC48-143E-49F7-8D59-6D0711994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sellaDiTesto 3"/>
          <p:cNvSpPr/>
          <p:nvPr/>
        </p:nvSpPr>
        <p:spPr>
          <a:xfrm>
            <a:off x="0" y="4221000"/>
            <a:ext cx="914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ursoio e l'asta sono dotati di ganasce (7) e di becchi (9) che servono per rilevare, rispettivamente, spessori, diametri esterni di tubi, … e distanze e diametri interni; all'estremità opposta il cursoio termina con una sottile asta (8) per rilevamenti di profondità. La misura viene letta sull'asta graduata in corrispondenza dello 0 del nonio. La graduazione del nonio consente di apprezzare variazioni di lunghezza più piccole del millimetro (o della frazione di pollice) rispetto a questa prima lettura. La precisione che si riesce a raggiungere dipende dal tipo di nonio, come illustrano gli esempi sottostanti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magine 4" descr="calibro.jpg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4226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08360" y="2637000"/>
            <a:ext cx="46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2708280"/>
            <a:ext cx="56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calibr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è costituito da un'asta (1) graduata, in genere, sia in mm (3) che in inch (4), sulla quale scorre un cursoio (2) che porta incisa una particolare graduazione - o due, una (5) adiacente alla scala in mm e una (6) adiacente a quella in inch - che prende il nome di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non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3" descr="nonio1.gif"/>
          <p:cNvPicPr/>
          <p:nvPr/>
        </p:nvPicPr>
        <p:blipFill>
          <a:blip r:embed="rId1"/>
          <a:stretch/>
        </p:blipFill>
        <p:spPr>
          <a:xfrm>
            <a:off x="1403280" y="0"/>
            <a:ext cx="5724720" cy="3386160"/>
          </a:xfrm>
          <a:prstGeom prst="rect">
            <a:avLst/>
          </a:prstGeom>
          <a:ln w="0">
            <a:noFill/>
          </a:ln>
        </p:spPr>
      </p:pic>
      <p:sp>
        <p:nvSpPr>
          <p:cNvPr id="46" name="CasellaDiTesto 5"/>
          <p:cNvSpPr/>
          <p:nvPr/>
        </p:nvSpPr>
        <p:spPr>
          <a:xfrm>
            <a:off x="428760" y="3643200"/>
            <a:ext cx="8072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l nonio in figura ha 10 divisioni che formano una scala lunga complessivamente 9 millimetri. Nella misurazione illustrata, lo 0 del nonio si è posizionato tra le tacche dei 12 e dei 13 mm dell'asta graduata. 12 mm è la misura troncata ai m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 le tacche del nonio quella che è più vicina a una tacca dell'asta graduata è la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In questo caso si assume come misura arrotondata (ai decimi di millimetro) 12.8 mm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magine 3" descr="nonio3.gif"/>
          <p:cNvPicPr/>
          <p:nvPr/>
        </p:nvPicPr>
        <p:blipFill>
          <a:blip r:embed="rId1"/>
          <a:stretch/>
        </p:blipFill>
        <p:spPr>
          <a:xfrm>
            <a:off x="0" y="0"/>
            <a:ext cx="5500800" cy="2857680"/>
          </a:xfrm>
          <a:prstGeom prst="rect">
            <a:avLst/>
          </a:prstGeom>
          <a:ln w="0">
            <a:noFill/>
          </a:ln>
        </p:spPr>
      </p:pic>
      <p:sp>
        <p:nvSpPr>
          <p:cNvPr id="48" name="CasellaDiTesto 4"/>
          <p:cNvSpPr/>
          <p:nvPr/>
        </p:nvSpPr>
        <p:spPr>
          <a:xfrm>
            <a:off x="324000" y="3284640"/>
            <a:ext cx="84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a spiegazione abbastanza intuitiva è la seguente. Lo 0 del nonio era di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vanti rispetto alla tacca dei 12 mm. Una divisione del nonio è di 1/10 più corta di quelle dell'asta, ossia più corta di 0.1 mm. Se avanzando lungo il nonio si passano 8 divisioni affinché una tacca dell'asta superi il ritar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iziale e raggiunga una tacca del nonio, dato che ad ogni divisione superata il recupero è di 0.1 mm, ciò significa che il ritardo era di 0.8 mm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324000" y="2921040"/>
            <a:ext cx="84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l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alibri"/>
              </a:rPr>
              <a:t> 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onio in figura possiamo riferirci a due tipi di tacche. Se ci riferiamo solo alle tacche grosse, abbiamo:  effettuata la misurazione, lo 0 del nonio supera quello dell'asta di 12 mm. Tra le successive tacche (grosse) quella che più si avvicina a una tacca dell'asta è la 8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 Quindi assumo 12.8 mm come misura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 considero tutte le tacche e osservo che la tacca successiva è ancora più vicina (vedi figura 2), assumo 12.85 mm come misura (con una precisone di 0.025 mm, ossia 12.85 ± 0.025 mm)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magine 4" descr="nonio2.gif"/>
          <p:cNvPicPr/>
          <p:nvPr/>
        </p:nvPicPr>
        <p:blipFill>
          <a:blip r:embed="rId1"/>
          <a:stretch/>
        </p:blipFill>
        <p:spPr>
          <a:xfrm>
            <a:off x="1857240" y="428760"/>
            <a:ext cx="4913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asellaDiTesto 4"/>
          <p:cNvSpPr/>
          <p:nvPr/>
        </p:nvSpPr>
        <p:spPr>
          <a:xfrm>
            <a:off x="0" y="28875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sideriamo il primo caso. 10 divisioni del nonio corrispondono a 39 mm dell'asta, ossia sono più corte di 1 mm rispetto a 40 mm; una divisone del nonio è più corta di 0.1 mm rispetto a 4 mm dell'asta. Ragioniamo esattamente come nel caso (1): le tacche sull'asta impiegano uno spazio lungo 8 tacche del nonio per raggiungere una tacca di questo; quindi il ritardo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ra di 0.8 mm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e consideriamo le divisioni sul nonio più piccole il ragionamento è ancora lo stesso, a patto il fatto che ogni divisione rappresenta 0.05 mm (20 divisioni più corte di 1 mm rispetto a 40 mm, quindi una divisone è più corta di 0.05 mm rispetto a 2 mm); ci vogliono 17 divisoni sul nonio per superare il ritardo, ossia 17*0.05 mm = 0.85 mm (17/20 di 1 mm)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alibri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l nonio fosse 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50 divis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i procederebbe in modo simile. Ad es. se 50 divisioni del nonio corrispondono a 49 mm (1 mm in meno) e se effettuando una misura le tacche sulle due graduazioni si raccordano alla 13 divisione del nonio, alla misura in millimetri dobbiamo aggiungere 13/50 di 1 mm, ossia 26/100 di mm, ossia 0.26 mm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magine 4" descr="nonio2.gif"/>
          <p:cNvPicPr/>
          <p:nvPr/>
        </p:nvPicPr>
        <p:blipFill>
          <a:blip r:embed="rId1"/>
          <a:stretch/>
        </p:blipFill>
        <p:spPr>
          <a:xfrm>
            <a:off x="2214720" y="428760"/>
            <a:ext cx="4913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64360" cy="2766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443640" y="260280"/>
            <a:ext cx="2700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CROMETRO o CALIBRO PAL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nge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zzazione 0-2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cisione 0,001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774880"/>
            <a:ext cx="5832360" cy="3868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516720" y="2924280"/>
            <a:ext cx="2303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ura delle frazioni di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crometro con precisione 0,01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5003640" cy="375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620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locchetti John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63640" y="40006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12000" y="4076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ar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7:09:40Z</dcterms:created>
  <dc:creator>Segreteria IPMM07</dc:creator>
  <dc:description/>
  <dc:language>en-US</dc:language>
  <cp:lastModifiedBy>user</cp:lastModifiedBy>
  <dcterms:modified xsi:type="dcterms:W3CDTF">2010-03-24T10:32:49Z</dcterms:modified>
  <cp:revision>5</cp:revision>
  <dc:subject/>
  <dc:title>Diapositiva 1</dc:title>
</cp:coreProperties>
</file>